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99670-E8BD-4AB8-98AB-D02B4994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4E341-C764-4A80-8477-941A2F5A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93724-0307-4707-8D37-7F0B4505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9AFD8-090C-4C65-8EC1-510B5A33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16F2D-88AD-4E69-95DF-DCAE12482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74D-A49F-432F-B7EB-39321F6A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E80-E417-4F4F-A105-C556099A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0DA-738C-42ED-A722-BC91DD88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E20-BAC5-4AE6-AD13-1558D6CA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017-2BDF-4267-BC45-4C9FF2A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F65-6FDE-4911-BEED-2F68B9B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F7D-6136-4DA9-8722-976C207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A00-1873-43E0-ACAD-6DBFD78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799-2099-4C49-A413-74C9F6D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71C-EDBB-4F18-9D40-5C45F9D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95A-7BE9-48EA-8FE7-89BE62C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04E-AD84-4B1B-8F30-FD6097C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05315-CA97-410A-AA31-423F02C28D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73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s, Germs, &amp; Steel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ism and G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World Health Organization “50 Facts: Global Health Situation and Trends 1955-2025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:  Multipl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1480680"/>
            <a:ext cx="907092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aths in children under age 5 ar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fectious diseases an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emature birth/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idents/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A - More than 5 million each year die from diseases such as pneumonia and dysentery (diarrhea leading to malnutrition), mostly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1588680"/>
            <a:ext cx="9070920" cy="59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At least 40% of the deaths in children under age 5 that occur worldwide each year could be prevented by administering existing vaccines to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True.  Of the 5 million+ children under five who die each year, 2 million deaths could be prevented by administering existing vaccines and most of the rest would be preventable by other means (i.e. good nutrition, hygiene, clean wat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ost deadly infectious diseases world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ute Lower Respiratory Infections/Pneumon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7 million death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uberculosis (2.9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ysentery (Diarrhea) (2.5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IV/AIDS (2.3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Malaria (1.5-2.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HIV/AIDS are easily preventable and/or tre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4680" y="198360"/>
            <a:ext cx="90676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9760" y="1265400"/>
            <a:ext cx="95248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surprised by the answers to any of the questions? If so, which ones,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erson living in the U.S., would you expect to suffer from the infectious diseases that are the top killers worldwide?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ge where so much medical technology is available, particularly in the form of medications and vaccines, why do you think so many people are still dying from preventable dis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make you feel when you think about people in developing countries dying from these types of diseases at alarmingly hig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responsible for helping to eradicate these diseas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4:18:23Z</dcterms:created>
  <dc:creator/>
  <dc:description/>
  <dc:language>en-US</dc:language>
  <cp:lastModifiedBy>Dominic Lambek</cp:lastModifiedBy>
  <dcterms:modified xsi:type="dcterms:W3CDTF">2013-12-06T19:02:48Z</dcterms:modified>
  <cp:revision>3</cp:revision>
  <dc:subject/>
  <dc:title>“Guns, Germs, &amp; Steel” Episode 3</dc:title>
</cp:coreProperties>
</file>